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2.gif" ContentType="image/gif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media/image13.png" ContentType="image/png"/>
  <Override PartName="/ppt/media/image1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2ED-1BEF-42AD-94D3-13535DA0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FA3-CB51-423E-B27D-FEB3B11F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866-3BAF-4E52-98C8-59A39A16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6CB-6115-48BD-AC25-ABA00557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0A3-9D0B-45A2-97B2-B28D3F5B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567-8B69-4EA9-A8BF-ECE00D3D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80EE-3032-4C05-A4B0-496E1A29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213-1B64-4003-8D1D-DB241D48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90A-636D-44FA-AA08-BABF3279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A82-DE4C-46F7-92FE-98C4AF46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13D7-FB43-455D-A2B5-C575120B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2C1-8D40-4D62-A6E9-E3BDCD37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159D-D94B-440D-9AC2-5D21843706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4005360"/>
            <a:ext cx="2737080" cy="2089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806292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</a:t>
            </a: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РЕД КУРЕ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ченица 5 класса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КУ Таскинской ООШ Виселкова А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0" y="5157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ломай сигарету, 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игарета не сломала твою жиз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13440" y="2060640"/>
            <a:ext cx="4030560" cy="2876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54-54\Desktop\1248379489_7.jpeg"/>
          <p:cNvPicPr/>
          <p:nvPr/>
        </p:nvPicPr>
        <p:blipFill>
          <a:blip r:embed="rId2"/>
          <a:stretch/>
        </p:blipFill>
        <p:spPr>
          <a:xfrm>
            <a:off x="0" y="1557360"/>
            <a:ext cx="4896000" cy="3571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top smoking"/>
          <p:cNvPicPr/>
          <p:nvPr/>
        </p:nvPicPr>
        <p:blipFill>
          <a:blip r:embed="rId3"/>
          <a:stretch/>
        </p:blipFill>
        <p:spPr>
          <a:xfrm>
            <a:off x="0" y="5589720"/>
            <a:ext cx="42847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след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люди начинают кур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зна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рвнич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каким причинам курят подростки (юноши и девушки)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лохая компания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Хотят выглядеть взрослей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нтересно, быть круты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сли я курю, то вредно ли это окружающ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 зна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а вред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бросить курить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братиться к специалис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ужна сила во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упить таблет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8200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я из социологических  опросов, можно сделать вывод, что информация о вреде курения  широко распространена. Люди не до  конца оценивают последствия табакокурения, тем самым наносят себе огромный вр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и вообще не задумываются  на эту тему. Многие подростки не осознают всей опасности, которую таит в себе курение, в том числе пассив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сследовании была предпринята попытка выяснить уровень осведомленности подростков относительно курения, его вреда для здоровья и провоцируемых им болез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принял решение, что курение - это медленное   самоубийство и лучше не начинать, даже не пробова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9" descr="big.gif"/>
          <p:cNvPicPr/>
          <p:nvPr/>
        </p:nvPicPr>
        <p:blipFill>
          <a:blip r:embed="rId1"/>
          <a:stretch/>
        </p:blipFill>
        <p:spPr>
          <a:xfrm>
            <a:off x="6084720" y="4581360"/>
            <a:ext cx="1908360" cy="190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104033_22526_600.jpg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Users\user\Pictures\stop-tabak.gif"/>
          <p:cNvPicPr/>
          <p:nvPr/>
        </p:nvPicPr>
        <p:blipFill>
          <a:blip r:embed="rId1"/>
          <a:srcRect l="0" t="0" r="0" b="17007"/>
          <a:stretch/>
        </p:blipFill>
        <p:spPr>
          <a:xfrm>
            <a:off x="0" y="333360"/>
            <a:ext cx="4546440" cy="6524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97560" y="549360"/>
            <a:ext cx="4546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нять и доказать, что курение вредит здоровью человека, сокращает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Пропаганда здорового образ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448164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87280" y="3068640"/>
            <a:ext cx="633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ъект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4653000"/>
            <a:ext cx="59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ур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редит здо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ативно влияет на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16000" y="4076640"/>
            <a:ext cx="705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3080" y="342900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Здоровь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280" y="1341000"/>
            <a:ext cx="821844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отношение детей и взрослых к проблеме табако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анализировать научную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ь, к каким последствиям ведёт ку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ь, что курение вредит здо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835280" y="333360"/>
            <a:ext cx="62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27640" y="482112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лиз научн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авн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Курение или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здоровье –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  выбирайте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сами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2997360"/>
            <a:ext cx="830268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данны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Всемирной организации здравоохранения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бака умирает каждый пят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ждый день в России из-за болезней, вызванных курением табака, умирает тысяча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1482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52480" y="54900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21400" y="1125360"/>
            <a:ext cx="4422600" cy="518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xpomo.com/ruskolan/images/tabak-02.jpg"/>
          <p:cNvPicPr/>
          <p:nvPr/>
        </p:nvPicPr>
        <p:blipFill>
          <a:blip r:embed="rId2"/>
          <a:stretch/>
        </p:blipFill>
        <p:spPr>
          <a:xfrm>
            <a:off x="0" y="3429000"/>
            <a:ext cx="428616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76360" y="0"/>
            <a:ext cx="6480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4640"/>
            <a:ext cx="521964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 свойственно подражание взрослым. Причиной курения мальчиков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8 – 9 л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лось: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лия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варищей – в 26,8% случаев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любопыт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 23,2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аловств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 17,8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дра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зрослым – в 16,7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и в процессе подготовки к вступлению во «взрослую жизнь» усваивают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«взрослые нормы» пове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 и курение. Подростки видят в курении признак самостоятельности, взрослости. Курение в компании становится своего рода обязанностью, ритуалом, средством к сплоч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33336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ичины 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5084640"/>
            <a:ext cx="83628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Если ты не закуришь в школ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о есть вероятность, что 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не закуришь никогда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j0289289"/>
          <p:cNvPicPr/>
          <p:nvPr/>
        </p:nvPicPr>
        <p:blipFill>
          <a:blip r:embed="rId1"/>
          <a:stretch/>
        </p:blipFill>
        <p:spPr>
          <a:xfrm>
            <a:off x="0" y="1268280"/>
            <a:ext cx="5148360" cy="3443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5217480" y="1341360"/>
            <a:ext cx="39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происходит при курении: воздух при затяжке табаком нагревается до высокой температуры и извлекает из него различные вещества, которые вместе с дымом поступают в легкие. Трудно даже перечислить вредные вещества, содержащиеся в табаке, их насчитали более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183280" y="4457880"/>
            <a:ext cx="3960720" cy="2400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8360" y="4435560"/>
            <a:ext cx="3456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курящих людей быстрее разрушаются зубы, желтеет зубная эмаль, а полость рта издаёт специфический з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рганизм вместе со слюной попадают ядовитые вещества которые содержатся в дыме, что приводит к болям в желудке: гастритам, к язве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ое курение сопровождается бронхитом, в итоги снижается сопротивляемость лёгких к инфекционным заболеваниям, к туберкуле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результате поступления дыма в кровь, вместо обогащения кислородом, насыщается угарным газом. Наступает кислородное голодание в результате чего страдают нервная система и серд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икоти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ключается в процессы обмена,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сходящие в организме человека,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новится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обходим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5:22:12Z</dcterms:created>
  <dc:creator>USER</dc:creator>
  <dc:description/>
  <dc:language>en-US</dc:language>
  <cp:lastModifiedBy>Пользователь</cp:lastModifiedBy>
  <dcterms:modified xsi:type="dcterms:W3CDTF">2019-05-13T00:53:45Z</dcterms:modified>
  <cp:revision>10</cp:revision>
  <dc:subject/>
  <dc:title>Слайд 1</dc:title>
</cp:coreProperties>
</file>